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3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3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10156680"/>
            <a:ext cx="3273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3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5E9D77-E877-432B-BF61-D649232614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B68D-DD23-4A13-B428-D615F8583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4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4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AAD8-E224-432C-BDB7-88E6E4FF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37400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C7D9-280D-43F7-B12C-599CFE31D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832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832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37400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37400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AEC1-CC16-46E4-8923-41175B221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4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01C4-BC4B-452B-A01A-65FABFB0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4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4982-50F7-43DE-AD32-2F50C9A5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3FFA-5D2A-44F9-8FDC-ABE6B932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5742-42F6-4D3F-996C-9D4721DD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5A76-CF15-463D-8BC8-75CC96D3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04A6-856F-4FB0-A4AC-DAD04A55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37400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CE60-A5D4-4278-95E7-5B5FAA6C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4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58A8-D9E1-40B6-939E-64DA54E5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4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0800" indent="-2095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2800" indent="-2113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2800" indent="-2113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2800" indent="-2113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00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248FF6-1C66-451C-A22E-B7093CD5D8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APRE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ª MANUELA MA MOREI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HO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28800" y="0"/>
            <a:ext cx="789120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60360" y="0"/>
            <a:ext cx="792000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344160" cy="6661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